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72FC-EF29-4A40-8877-8F30A37E0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D9FA-0C53-428E-ACD0-9206AF36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8CDE-4FFF-43E7-AE23-3542AF62F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9C23-07D5-40F5-8EEC-7C37D58D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912C-3CFF-4C1F-AFE1-72CBE777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649E-DF6A-43DD-B6AF-64935E09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9354-B6A3-41D2-BB40-C9AA64A2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59E7-5982-47A7-9727-6477B5F2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F55A-B5DE-4B46-86B5-4A3CB32D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DB8E-E2D8-4B74-9CB0-7E280D6A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CBBA-264C-4A54-8060-A70D4D9D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273A-3C67-4D35-B806-AC697C5F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827A-D5DA-4914-AB01-3A0BAFF4A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E:/BIG%20BUSINESS/Pictures/Info%20Used%20from:http:/www.ilr.cornell.edu/trianglefire/narrative1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1470240"/>
          </a:xfrm>
          <a:prstGeom prst="rect">
            <a:avLst/>
          </a:prstGeom>
          <a:noFill/>
          <a:ln cap="rnd" w="76320">
            <a:solidFill>
              <a:srgbClr val="ffff00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riangle Shirtwaist F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81080" y="2285640"/>
            <a:ext cx="2362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This is what they were mak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876920" y="2133720"/>
            <a:ext cx="2819160" cy="2379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" y="5029200"/>
            <a:ext cx="8153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WHO do you think was working in this sweatshop??????? WHY???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778200" y="0"/>
            <a:ext cx="53658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1613520"/>
            <a:ext cx="3352680" cy="28371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sch Building, on the corner of Greene Street and Washington Place, was one of the new “fire-proof” buildings, but the blaze on March 25th was not their first.  It was also not the only unsafe building where young immigrants worked 6 or 7 days each wee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01880" y="0"/>
            <a:ext cx="5442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8600" y="1791360"/>
            <a:ext cx="3352680" cy="28371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sch Building, on the corner of Greene Street and Washington Place, was one of the new “fire-proof” buildings, but the blaze on March 25th was not their first.  It was also not the only unsafe building where young immigrants worked 6 or 7 days each wee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7800"/>
            <a:ext cx="9144000" cy="11912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240 employees sewing shirtwaists on the ninth floor had their escape blocked by back-to-back chairs and work baskets in the aisles.  Walking space was so limited that many were forced to climb over the 75-foot long tables to get to the windows, stairs, and elevators that might lead to saf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965400" y="0"/>
            <a:ext cx="51786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7200" y="1523880"/>
            <a:ext cx="3124080" cy="10688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e Escape Lad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5475240" cy="68580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5333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tures/Info Used fro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ilr.cornell.edu/trianglefire/narrative1.html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6:34:31Z</dcterms:created>
  <dc:creator>Administrator</dc:creator>
  <dc:description/>
  <dc:language>en-US</dc:language>
  <cp:lastModifiedBy>Alton Farnsworth</cp:lastModifiedBy>
  <dcterms:modified xsi:type="dcterms:W3CDTF">2009-10-26T22:50:41Z</dcterms:modified>
  <cp:revision>2</cp:revision>
  <dc:subject/>
  <dc:title>Slide 1</dc:title>
</cp:coreProperties>
</file>